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177-1C3B-4A13-B27B-44F6A59E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B80-1434-42D2-98F0-C99242B7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14D-DF10-4EBE-AD8C-D425EC36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512-AC0C-42B2-9607-F3392C6E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DE9-C77D-453F-80F4-6E9F8C28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B7C-31ED-442E-89CD-ABD2DD10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C5D-8E11-44E9-A031-5D6975FB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CFD-6DC4-4401-BFB5-93C68C78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D67-011F-4851-ACFE-668DD22B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70F-371E-410E-A9A3-A545E875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DAA-BC00-455D-9EAE-D7A5357E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6A2-B4EA-403D-BAD5-092F7DA9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8D54-4DAB-4C3C-82E3-82184353D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5125494&amp;id=55599142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yphot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8:00:58Z</dcterms:created>
  <dc:creator>user97</dc:creator>
  <dc:description/>
  <dc:language>en-US</dc:language>
  <cp:lastModifiedBy>user97</cp:lastModifiedBy>
  <dcterms:modified xsi:type="dcterms:W3CDTF">2010-04-28T08:08:55Z</dcterms:modified>
  <cp:revision>1</cp:revision>
  <dc:subject/>
  <dc:title>שקופית 1</dc:title>
</cp:coreProperties>
</file>